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3C2-BCA2-4D4C-9071-888E2D3A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4CF-2320-4BDE-858F-692ADE66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2AF-7286-4685-921E-F0B9F9FB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1CE-ADEF-4A50-8FCD-5238E1CD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135-9C6E-419B-AEE4-14C2430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C32-92F9-443D-908B-2FAEE87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30C-E5CD-436B-964B-13F55059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A78-B9A8-44AC-A25D-81A01F4B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57C-F134-46B7-A541-3C25BE95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2E8-E1D9-40B7-B49B-F1CFF7A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616-8381-4BD2-A9D6-61B81A2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45F-FAD9-422E-AD00-8840AE3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2DB4-4685-496D-B2CE-3C0298236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3371760" cy="4848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468360" y="54936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24b50"/>
                </a:solidFill>
                <a:latin typeface="Arial"/>
              </a:rPr>
              <a:t>Стало доброю традицією дарувати книги для бібліотеки випускниками агрономічного факультету. Цьогоріч фонд поповнився 30 примірниками нового підручника «Сучасні технології овочівництва закритого грунт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870360" cy="5329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395280" y="140976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Подана прогресивна технологія боротьби зі шкідниками і хворобам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778200" cy="5256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324000" y="909720"/>
            <a:ext cx="446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Докладно описана малооб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ємна гідропоніка і промислова технологія вирощування основних овочевих культур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4416480" y="549360"/>
            <a:ext cx="4111560" cy="55436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30600" cy="5256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468360" y="13762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Сподіваємось, що підручник матиме великий успіх для підготовки фахівців напрямку «Агрономі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2124000" y="344808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e4649"/>
                </a:solidFill>
                <a:latin typeface="Arial"/>
              </a:rPr>
              <a:t>З вдячністю та повагою колектив бібліоте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683160" cy="544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4000" y="184464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Щиро вдячні за вагомий внесок, який зробили науковц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76092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50920" y="554040"/>
            <a:ext cx="46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ернишенко В.І. Сучасні технології овочівництва закритого ґрунту: підручник для підготовки фахівців «магістр» спец. 8.09010104 «Плодівництво і виноградарство» / В.І. Чернишенко, А.І. Пашковський,  П.І.Кирій. – Житомир: Рута, 2018. – 400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843360" cy="5472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395280" y="1484280"/>
            <a:ext cx="41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Автори підручника «Сучасні технології овочівництва закритого грунту» – вчені прак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3895920" cy="54910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285840" y="476280"/>
            <a:ext cx="4321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Чернишенко В.І. – голова правління ПрАТ «Комбінат «Тепличний», Герой України, академік Української технологічної академії, заслужений працівник сільського господарства України, доктор с.-г. наук, професор, випускник агрономічного факультету БНАУ, 1959 ро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672000" cy="4969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395280" y="620640"/>
            <a:ext cx="453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Пашковський А.І. – дійсний член Української технологічної академії, почесний академік, керівник галузевого відділення «Агропромисловий комплекс», доктор с.-г. наук, професор, заслужений працівник промисловості України, заслужений діяч АП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08456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324000" y="54936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e4649"/>
                </a:solidFill>
                <a:latin typeface="Arial"/>
              </a:rPr>
              <a:t>Кирій П.І. – головний агроном ПрАТ «Комбінат «Тепличний» заслужений працівник сільського господарства України, кандидат сільськогосподарських 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8440" cy="5635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395280" y="478440"/>
            <a:ext cx="446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На сьогодні підготовка висококваліфікованих фахівців, знання, уміння та компетенції повинні відповідати потребам сучасного ринку праці в сфері виробництва овочевої продукції, які не можливі без оволодіння сучасними технологіями відкритого і закритого ґрунту, що і викладаються в цьому підруч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524400" cy="518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250920" y="105300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Arial"/>
              </a:rPr>
              <a:t>У посібнику висвітлюються особливості сучасних технологій вирощування овочів у закритому ґрунті з використанням систем крапельного поли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07:45:24Z</dcterms:created>
  <dc:creator>biblioteka</dc:creator>
  <dc:description/>
  <dc:language>en-US</dc:language>
  <cp:lastModifiedBy>biblioteka</cp:lastModifiedBy>
  <dcterms:modified xsi:type="dcterms:W3CDTF">2018-07-26T08:42:22Z</dcterms:modified>
  <cp:revision>9</cp:revision>
  <dc:subject/>
  <dc:title>Слайд 1</dc:title>
</cp:coreProperties>
</file>