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89F-3C2A-47E4-986F-7100701B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A5B-FD6C-486A-B98C-11F3DD08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80D-C575-4E06-9CC9-30A2F3A4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B8E-FAEA-4923-BAAC-4F1D43A4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BBE-D699-4F66-9B42-8FF4D4E3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D6C-A035-4C01-AC9F-30E26AC1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59B-92D9-48B4-9638-0043D579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B77-2A02-4E3A-8550-64CC9EDF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595-97D9-4D6D-B7D7-3307F2A9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962-3007-48BC-ADCE-EB04B89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3E8-4DC4-4C27-94F8-B19C60D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040-06C6-4BA0-897A-EFDD192F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FAA9-281E-4E62-A928-08984213D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3371760" cy="48481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468360" y="54936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24b50"/>
                </a:solidFill>
                <a:latin typeface="Arial"/>
              </a:rPr>
              <a:t>Стало доброю традицією дарувати книги для бібліотеки випускниками агрономічного факультету. Цьогоріч фонд поповнився 30 примірниками нового підручника «Сучасні технології овочівництва закритого грунт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870360" cy="5329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395280" y="140976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Подана прогресивна технологія боротьби зі шкідниками і хвороб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778200" cy="5256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324000" y="909720"/>
            <a:ext cx="446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Докладно описана малооб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ємна гідропоніка і промислова технологія вирощування основних овочевих культур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4416480" y="549360"/>
            <a:ext cx="4111560" cy="55436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630600" cy="5256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468360" y="137628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Сподіваємось, що підручник матиме великий успіх для підготовки фахівців напрямку «Агрономі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"/>
          <p:cNvSpPr/>
          <p:nvPr/>
        </p:nvSpPr>
        <p:spPr>
          <a:xfrm>
            <a:off x="2124000" y="344808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e4649"/>
                </a:solidFill>
                <a:latin typeface="Arial"/>
              </a:rPr>
              <a:t>З вдячністю та повагою колектив бібліоте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683160" cy="544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24000" y="1844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Щиро вдячні за вагомий внесок, який зробили науковц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76092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250920" y="554040"/>
            <a:ext cx="46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нишенко В.І. Сучасні технології овочівництва закритого ґрунту: підручник для підготовки фахівців «магістр» спец. 8.09010104 «Плодівництво і виноградарство» / В.І. Чернишенко, А.І. Пашковський,  П.І.Кирій. – Житомир: Рута, 2018. – 400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843360" cy="5472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395280" y="148428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Автори підручника «Сучасні технології овочівництва закритого грунту» – вчені прак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3895920" cy="5491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285840" y="476280"/>
            <a:ext cx="4321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Чернишенко В.І. – голова правління ПрАТ «Комбінат «Тепличний», Герой України, академік Української технологічної академії, заслужений працівник сільського господарства України, доктор с.-г. наук, професор, випускник агрономічного факультету БНАУ, 1959 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672000" cy="49690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395280" y="620640"/>
            <a:ext cx="453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Пашковський А.І. – дійсний член Української технологічної академії, почесний академік, керівник галузевого відділення «Агропромисловий комплекс», доктор с.-г. наук, професор, заслужений працівник промисловості України, заслужений діяч АП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084560" cy="544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24000" y="549360"/>
            <a:ext cx="42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Кирій П.І. – головний агроном ПрАТ «Комбінат «Тепличний» заслужений працівник сільського господарства України, кандидат сільськогосподарських на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08440" cy="5635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95280" y="478440"/>
            <a:ext cx="446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На сьогодні підготовка висококваліфікованих фахівців, знання, уміння та компетенції повинні відповідати потребам сучасного ринку праці в сфері виробництва овочевої продукції, які не можливі без оволодіння сучасними технологіями відкритого і закритого ґрунту, що і викладаються в цьому підруч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524400" cy="5185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250920" y="105300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У посібнику висвітлюються особливості сучасних технологій вирощування овочів у закритому ґрунті з використанням систем крапельного поли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07:45:24Z</dcterms:created>
  <dc:creator>biblioteka</dc:creator>
  <dc:description/>
  <dc:language>en-US</dc:language>
  <cp:lastModifiedBy>biblioteka</cp:lastModifiedBy>
  <dcterms:modified xsi:type="dcterms:W3CDTF">2018-07-26T08:42:22Z</dcterms:modified>
  <cp:revision>9</cp:revision>
  <dc:subject/>
  <dc:title>Слайд 1</dc:title>
</cp:coreProperties>
</file>